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95DB-F539-4F4D-A5AB-1BF6BC7DFEF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E2A1-9511-40EC-AF6C-8DE60AB04E2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388-1D39-437A-B50B-4BEA5443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F98-4CDD-4174-A316-C6A9422B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D2F-39F6-4BEC-9E39-ABF36722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46A-A8B2-4568-AF1C-3C36E9E2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1FFC-064D-4D6D-B399-9C33CED9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5799-33DB-47D9-9B50-7F20103D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E20F-5B2C-4534-B1FF-4B2FAD04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B9C0-F36D-466A-80CC-5913357D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1AB2-C39A-4C92-B412-4386F0BC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43E3-7202-4DBF-A8C2-DF03D317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2DE7-D41C-45E1-B5DD-A958C73E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776-70A9-4175-8033-AABBD5B1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01C6-DEAC-4FC0-BB8A-5B9DC609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7EA7-283D-4DB8-9EE6-F34D3C0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8237-394D-42FA-A587-2DAE6954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7EA4-16A8-44F0-8BED-31E7A49B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550B-5AD5-4FF0-892D-DFF914D6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2BF02-E5BE-4F28-AE3E-FDEA4F4C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0EC91-86DD-49FB-9BD5-19844025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E272F-69D4-4AFB-BA7F-A0283ABB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3AF6-6F0B-4E30-B38D-0E737588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6AD9-CD81-45A7-BDCD-3BAA12B2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2F1-272C-48E7-84DB-FBB6729E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AC89-8429-4B2D-9A4A-C07FE44E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7017-920A-4476-809E-B867F7F7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E23C-E155-46E9-80DA-07A96B6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5FDC9-9D35-48B1-81E1-ED3FAF81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62C3-6FC1-4DDE-BFF5-38E48720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AD3C-94B4-4103-94D6-13109200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82743-3774-45D7-94FD-9F495839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2B52-A673-4953-8C84-75386EEC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3AB3A-3D26-4091-B8B7-F3E81E6A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7845E-BF75-4814-80F0-91389C78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987-4093-4DDF-9749-34E35A0D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500BE-D2D7-44E8-9BD5-7571EB32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B3BB4-6F8B-4F29-B64A-9DF7CC10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84017-59EE-454E-AF6B-C3976785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DE28-4D75-450C-AF7F-69C46259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F194E-957F-43D5-BF1E-096CA8BA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CB5CC-6716-4362-A4FD-B217BB3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F21C4-4522-43AA-A80E-41054A9D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3689-B2B4-4828-A9A9-3A1E96AB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2E428-E93B-4131-A2DA-F7F73D91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D68-E27E-4EE3-9FEB-7D4394C3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9C3-3948-418D-B549-BE1F450C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403-0BD7-44A2-A0BD-D9D1B255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6A2-93E4-431C-B198-8FE24C2D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FB1-0B66-49BF-B50C-231F1C00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4C56-25B4-4206-AE1E-EE924FCFDCE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73B9-8F9E-4286-9207-EE5084E42AF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553C-AA9B-43FD-B049-D4529AC4430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EDF7-CD1A-46D1-B85D-BAF48F87BC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1371600" y="1530360"/>
            <a:ext cx="6845400" cy="2309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98720" y="4519440"/>
            <a:ext cx="501336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4"/>
              <p:cNvSpPr txBox="1"/>
              <p:nvPr/>
            </p:nvSpPr>
            <p:spPr>
              <a:xfrm>
                <a:off x="2124000" y="3933720"/>
                <a:ext cx="201636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0" name="Group 9"/>
          <p:cNvGrpSpPr/>
          <p:nvPr/>
        </p:nvGrpSpPr>
        <p:grpSpPr>
          <a:xfrm>
            <a:off x="5508720" y="3213000"/>
            <a:ext cx="2735280" cy="2363400"/>
            <a:chOff x="5508720" y="3213000"/>
            <a:chExt cx="2735280" cy="2363400"/>
          </a:xfrm>
        </p:grpSpPr>
        <p:sp>
          <p:nvSpPr>
            <p:cNvPr id="271" name="Rectangle 10"/>
            <p:cNvSpPr/>
            <p:nvPr/>
          </p:nvSpPr>
          <p:spPr>
            <a:xfrm>
              <a:off x="5960520" y="4158360"/>
              <a:ext cx="1806840" cy="1418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6261480" y="4473360"/>
              <a:ext cx="602280" cy="472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7315560" y="4946400"/>
              <a:ext cx="300960" cy="630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6111000" y="3213000"/>
              <a:ext cx="300960" cy="630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14"/>
            <p:cNvSpPr/>
            <p:nvPr/>
          </p:nvSpPr>
          <p:spPr>
            <a:xfrm>
              <a:off x="5508720" y="3370320"/>
              <a:ext cx="2735280" cy="787680"/>
            </a:xfrm>
            <a:prstGeom prst="triangle">
              <a:avLst>
                <a:gd name="adj" fmla="val 5044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6562800" y="4473360"/>
              <a:ext cx="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7466040" y="526140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Line 19"/>
          <p:cNvSpPr/>
          <p:nvPr/>
        </p:nvSpPr>
        <p:spPr>
          <a:xfrm flipV="1">
            <a:off x="5529240" y="3357360"/>
            <a:ext cx="1347840" cy="77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6877080" y="3357720"/>
            <a:ext cx="136692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5508720" y="4149720"/>
            <a:ext cx="27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2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453708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9"/>
              <p:cNvSpPr txBox="1"/>
              <p:nvPr/>
            </p:nvSpPr>
            <p:spPr>
              <a:xfrm>
                <a:off x="2843280" y="4221000"/>
                <a:ext cx="19414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&lt;=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2004840" cy="201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"/>
          <p:cNvPicPr/>
          <p:nvPr/>
        </p:nvPicPr>
        <p:blipFill>
          <a:blip r:embed="rId3"/>
          <a:stretch/>
        </p:blipFill>
        <p:spPr>
          <a:xfrm rot="19824600">
            <a:off x="5702400" y="2633400"/>
            <a:ext cx="2342880" cy="3000240"/>
          </a:xfrm>
          <a:prstGeom prst="rect">
            <a:avLst/>
          </a:prstGeom>
          <a:ln w="0">
            <a:noFill/>
          </a:ln>
        </p:spPr>
      </p:pic>
      <p:sp>
        <p:nvSpPr>
          <p:cNvPr id="286" name="Line 12"/>
          <p:cNvSpPr/>
          <p:nvPr/>
        </p:nvSpPr>
        <p:spPr>
          <a:xfrm flipH="1">
            <a:off x="6156000" y="2708280"/>
            <a:ext cx="647640" cy="1800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6156360" y="4508640"/>
            <a:ext cx="1944720" cy="4330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14"/>
          <p:cNvSpPr/>
          <p:nvPr/>
        </p:nvSpPr>
        <p:spPr>
          <a:xfrm flipH="1" flipV="1">
            <a:off x="6803640" y="2708280"/>
            <a:ext cx="1297080" cy="22334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malu – šaurleņķa trijstūris </a:t>
            </a: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(regulārs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0"/>
              <p:cNvSpPr txBox="1"/>
              <p:nvPr/>
            </p:nvSpPr>
            <p:spPr>
              <a:xfrm>
                <a:off x="2629080" y="4292640"/>
                <a:ext cx="2373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1" name="Picture 6" descr="image"/>
          <p:cNvPicPr/>
          <p:nvPr/>
        </p:nvPicPr>
        <p:blipFill>
          <a:blip r:embed="rId2"/>
          <a:stretch/>
        </p:blipFill>
        <p:spPr>
          <a:xfrm>
            <a:off x="5076720" y="1989000"/>
            <a:ext cx="2159280" cy="1717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A wooden rack set up for eight-ball. Note 1 ball in front, centered 8 ball, staggered ball pattern, and different rear corners."/>
          <p:cNvPicPr/>
          <p:nvPr/>
        </p:nvPicPr>
        <p:blipFill>
          <a:blip r:embed="rId3"/>
          <a:stretch/>
        </p:blipFill>
        <p:spPr>
          <a:xfrm>
            <a:off x="6443640" y="4437000"/>
            <a:ext cx="1714680" cy="1282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1258920" y="2133720"/>
            <a:ext cx="2592360" cy="1998720"/>
          </a:xfrm>
          <a:prstGeom prst="rect">
            <a:avLst/>
          </a:prstGeom>
          <a:ln w="0">
            <a:noFill/>
          </a:ln>
        </p:spPr>
      </p:pic>
      <p:sp>
        <p:nvSpPr>
          <p:cNvPr id="294" name="Line 13"/>
          <p:cNvSpPr/>
          <p:nvPr/>
        </p:nvSpPr>
        <p:spPr>
          <a:xfrm flipH="1">
            <a:off x="5148000" y="3645000"/>
            <a:ext cx="2087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4"/>
          <p:cNvSpPr/>
          <p:nvPr/>
        </p:nvSpPr>
        <p:spPr>
          <a:xfrm flipV="1">
            <a:off x="5148360" y="1989000"/>
            <a:ext cx="100800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6156360" y="1989000"/>
            <a:ext cx="107964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16"/>
          <p:cNvSpPr/>
          <p:nvPr/>
        </p:nvSpPr>
        <p:spPr>
          <a:xfrm flipH="1">
            <a:off x="6588000" y="4508640"/>
            <a:ext cx="720720" cy="1081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6588000" y="5589720"/>
            <a:ext cx="151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H="1" flipV="1">
            <a:off x="7308360" y="4437000"/>
            <a:ext cx="792360" cy="1152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6"/>
          <p:cNvSpPr/>
          <p:nvPr/>
        </p:nvSpPr>
        <p:spPr>
          <a:xfrm>
            <a:off x="1979640" y="2708280"/>
            <a:ext cx="5472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ldies par uzmanību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042920" y="981000"/>
            <a:ext cx="6842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īcij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jstūr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uc daudzstūri, kuram ir trīs malas. Trijstūri var definēt arī kā plaknes apgabalu, ko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ierobežo trīs nogriežņ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971640" y="3789360"/>
            <a:ext cx="73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jstūrim ABC ir trīs malas AB, BC, AC, trīs virsotnes A, B, C un trīs leņķ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B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am trijstūrim visu iekšējo leņķu summa ir vienāda ar  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š trijstūris ir izliekta figūra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2089440" cy="1339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3780000" y="2708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ēlā redzams trijstūris ABC, to pieraksta šādi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AB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39640" y="12589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Kuras no dotajām figūrām ir trijstūri?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āpē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6804000" y="3645000"/>
            <a:ext cx="1873440" cy="1366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1258920" y="2349360"/>
            <a:ext cx="1584360" cy="1224000"/>
          </a:xfrm>
          <a:prstGeom prst="hexagon">
            <a:avLst>
              <a:gd name="adj" fmla="val 3236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26"/>
          <p:cNvGrpSpPr/>
          <p:nvPr/>
        </p:nvGrpSpPr>
        <p:grpSpPr>
          <a:xfrm>
            <a:off x="1186920" y="4365720"/>
            <a:ext cx="1943640" cy="1152360"/>
            <a:chOff x="1186920" y="4365720"/>
            <a:chExt cx="1943640" cy="1152360"/>
          </a:xfrm>
        </p:grpSpPr>
        <p:sp>
          <p:nvSpPr>
            <p:cNvPr id="212" name="Line 11"/>
            <p:cNvSpPr/>
            <p:nvPr/>
          </p:nvSpPr>
          <p:spPr>
            <a:xfrm flipH="1">
              <a:off x="1186920" y="4437000"/>
              <a:ext cx="79236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2195280" y="4365720"/>
              <a:ext cx="935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60360" y="5373360"/>
              <a:ext cx="1440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Group 24"/>
          <p:cNvGrpSpPr/>
          <p:nvPr/>
        </p:nvGrpSpPr>
        <p:grpSpPr>
          <a:xfrm>
            <a:off x="5867280" y="2565360"/>
            <a:ext cx="2087280" cy="431640"/>
            <a:chOff x="5867280" y="2565360"/>
            <a:chExt cx="2087280" cy="431640"/>
          </a:xfrm>
        </p:grpSpPr>
        <p:sp>
          <p:nvSpPr>
            <p:cNvPr id="216" name="Line 14"/>
            <p:cNvSpPr/>
            <p:nvPr/>
          </p:nvSpPr>
          <p:spPr>
            <a:xfrm>
              <a:off x="5867280" y="25653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6082920" y="278100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6298920" y="299700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4284720" y="4437000"/>
            <a:ext cx="2519280" cy="1584360"/>
            <a:chOff x="4284720" y="4437000"/>
            <a:chExt cx="2519280" cy="1584360"/>
          </a:xfrm>
        </p:grpSpPr>
        <p:sp>
          <p:nvSpPr>
            <p:cNvPr id="220" name="Line 17"/>
            <p:cNvSpPr/>
            <p:nvPr/>
          </p:nvSpPr>
          <p:spPr>
            <a:xfrm flipH="1">
              <a:off x="4284720" y="4437000"/>
              <a:ext cx="1079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Line 18"/>
            <p:cNvSpPr/>
            <p:nvPr/>
          </p:nvSpPr>
          <p:spPr>
            <a:xfrm>
              <a:off x="5364000" y="4437000"/>
              <a:ext cx="144000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19"/>
            <p:cNvSpPr/>
            <p:nvPr/>
          </p:nvSpPr>
          <p:spPr>
            <a:xfrm>
              <a:off x="4716360" y="5950080"/>
              <a:ext cx="2087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" name="Group 23"/>
          <p:cNvGrpSpPr/>
          <p:nvPr/>
        </p:nvGrpSpPr>
        <p:grpSpPr>
          <a:xfrm>
            <a:off x="3564000" y="2708280"/>
            <a:ext cx="1655640" cy="1079280"/>
            <a:chOff x="3564000" y="2708280"/>
            <a:chExt cx="1655640" cy="1079280"/>
          </a:xfrm>
        </p:grpSpPr>
        <p:sp>
          <p:nvSpPr>
            <p:cNvPr id="224" name="Line 20"/>
            <p:cNvSpPr/>
            <p:nvPr/>
          </p:nvSpPr>
          <p:spPr>
            <a:xfrm flipH="1">
              <a:off x="3564000" y="2779560"/>
              <a:ext cx="107928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21"/>
            <p:cNvSpPr/>
            <p:nvPr/>
          </p:nvSpPr>
          <p:spPr>
            <a:xfrm>
              <a:off x="4211640" y="2708280"/>
              <a:ext cx="8650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22"/>
            <p:cNvSpPr/>
            <p:nvPr/>
          </p:nvSpPr>
          <p:spPr>
            <a:xfrm>
              <a:off x="3635280" y="3355920"/>
              <a:ext cx="158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929720" y="6215040"/>
            <a:ext cx="1023840" cy="476280"/>
          </a:xfrm>
          <a:custGeom>
            <a:avLst/>
            <a:gdLst>
              <a:gd name="textAreaLeft" fmla="*/ 30600 w 1023840"/>
              <a:gd name="textAreaRight" fmla="*/ 993240 w 1023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6414" h="21600">
                <a:moveTo>
                  <a:pt x="0" y="0"/>
                </a:moveTo>
                <a:lnTo>
                  <a:pt x="46414" y="0"/>
                </a:lnTo>
                <a:lnTo>
                  <a:pt x="46414" y="21600"/>
                </a:lnTo>
                <a:lnTo>
                  <a:pt x="0" y="21600"/>
                </a:lnTo>
                <a:close/>
              </a:path>
              <a:path fill="lightenLess" w="46414" h="21600">
                <a:moveTo>
                  <a:pt x="0" y="0"/>
                </a:moveTo>
                <a:lnTo>
                  <a:pt x="46414" y="0"/>
                </a:lnTo>
                <a:lnTo>
                  <a:pt x="45014" y="1400"/>
                </a:lnTo>
                <a:lnTo>
                  <a:pt x="1400" y="1400"/>
                </a:lnTo>
                <a:close/>
              </a:path>
              <a:path fill="darken" w="46414" h="21600">
                <a:moveTo>
                  <a:pt x="46414" y="0"/>
                </a:moveTo>
                <a:lnTo>
                  <a:pt x="46414" y="21600"/>
                </a:lnTo>
                <a:lnTo>
                  <a:pt x="45014" y="20200"/>
                </a:lnTo>
                <a:lnTo>
                  <a:pt x="45014" y="1400"/>
                </a:lnTo>
                <a:close/>
              </a:path>
              <a:path fill="darkenLess" w="46414" h="21600">
                <a:moveTo>
                  <a:pt x="46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14" y="20200"/>
                </a:lnTo>
                <a:close/>
              </a:path>
              <a:path fill="lighten" w="46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14" h="21600">
                <a:moveTo>
                  <a:pt x="16200" y="10800"/>
                </a:moveTo>
                <a:lnTo>
                  <a:pt x="30213" y="3794"/>
                </a:lnTo>
                <a:lnTo>
                  <a:pt x="30213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8464320" cy="4214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785880" y="18572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ini tabulu ar atbilstošo zīmējumu!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Pārbaudi sevi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5" descr="9E9D532A"/>
          <p:cNvPicPr/>
          <p:nvPr/>
        </p:nvPicPr>
        <p:blipFill>
          <a:blip r:embed="rId2"/>
          <a:srcRect l="886" t="4901" r="3587" b="4255"/>
          <a:stretch/>
        </p:blipFill>
        <p:spPr>
          <a:xfrm>
            <a:off x="214200" y="1714680"/>
            <a:ext cx="877752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Calibri"/>
              </a:rPr>
              <a:t>Dažādmalu – šaurleņķu trijstūr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12" descr="Juras_perle"/>
          <p:cNvPicPr/>
          <p:nvPr/>
        </p:nvPicPr>
        <p:blipFill>
          <a:blip r:embed="rId2"/>
          <a:stretch/>
        </p:blipFill>
        <p:spPr>
          <a:xfrm>
            <a:off x="6084720" y="2708280"/>
            <a:ext cx="2044800" cy="24001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6"/>
              <p:cNvSpPr txBox="1"/>
              <p:nvPr/>
            </p:nvSpPr>
            <p:spPr>
              <a:xfrm>
                <a:off x="3419640" y="4292640"/>
                <a:ext cx="194292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Line 19"/>
          <p:cNvSpPr/>
          <p:nvPr/>
        </p:nvSpPr>
        <p:spPr>
          <a:xfrm>
            <a:off x="6156360" y="2924280"/>
            <a:ext cx="1800360" cy="730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20"/>
          <p:cNvSpPr/>
          <p:nvPr/>
        </p:nvSpPr>
        <p:spPr>
          <a:xfrm flipH="1">
            <a:off x="7020000" y="2997360"/>
            <a:ext cx="936720" cy="194436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22"/>
          <p:cNvSpPr/>
          <p:nvPr/>
        </p:nvSpPr>
        <p:spPr>
          <a:xfrm flipH="1" flipV="1">
            <a:off x="6156000" y="2924280"/>
            <a:ext cx="863640" cy="20174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24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95128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15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3114720" cy="23814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3059280" y="4365720"/>
                <a:ext cx="175248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45" name="Picture 23" descr="shuupuljkreesls_600"/>
          <p:cNvPicPr/>
          <p:nvPr/>
        </p:nvPicPr>
        <p:blipFill>
          <a:blip r:embed="rId3"/>
          <a:stretch/>
        </p:blipFill>
        <p:spPr>
          <a:xfrm>
            <a:off x="5867280" y="2276640"/>
            <a:ext cx="2592360" cy="2179440"/>
          </a:xfrm>
          <a:prstGeom prst="rect">
            <a:avLst/>
          </a:prstGeom>
          <a:ln w="0">
            <a:noFill/>
          </a:ln>
        </p:spPr>
      </p:pic>
      <p:sp>
        <p:nvSpPr>
          <p:cNvPr id="246" name="Line 24"/>
          <p:cNvSpPr/>
          <p:nvPr/>
        </p:nvSpPr>
        <p:spPr>
          <a:xfrm>
            <a:off x="6443640" y="2637000"/>
            <a:ext cx="21600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6659640" y="3860640"/>
            <a:ext cx="1081080" cy="360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26"/>
          <p:cNvSpPr/>
          <p:nvPr/>
        </p:nvSpPr>
        <p:spPr>
          <a:xfrm flipH="1" flipV="1">
            <a:off x="6443280" y="2637000"/>
            <a:ext cx="1297080" cy="1584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9"/>
              <p:cNvSpPr txBox="1"/>
              <p:nvPr/>
            </p:nvSpPr>
            <p:spPr>
              <a:xfrm>
                <a:off x="2411280" y="4221000"/>
                <a:ext cx="172728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1" name="Picture 9" descr="5556_1"/>
          <p:cNvPicPr/>
          <p:nvPr/>
        </p:nvPicPr>
        <p:blipFill>
          <a:blip r:embed="rId2"/>
          <a:stretch/>
        </p:blipFill>
        <p:spPr>
          <a:xfrm>
            <a:off x="5651640" y="2708280"/>
            <a:ext cx="2081160" cy="309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3"/>
          <a:stretch/>
        </p:blipFill>
        <p:spPr>
          <a:xfrm>
            <a:off x="1258920" y="1989000"/>
            <a:ext cx="3362400" cy="2133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17"/>
          <p:cNvSpPr/>
          <p:nvPr/>
        </p:nvSpPr>
        <p:spPr>
          <a:xfrm flipV="1">
            <a:off x="6588000" y="5013360"/>
            <a:ext cx="863640" cy="71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6588000" y="2924280"/>
            <a:ext cx="863640" cy="20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6588000" y="2924280"/>
            <a:ext cx="0" cy="2160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šaur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1"/>
              <p:cNvSpPr txBox="1"/>
              <p:nvPr/>
            </p:nvSpPr>
            <p:spPr>
              <a:xfrm>
                <a:off x="3276720" y="4581360"/>
                <a:ext cx="179856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9" name="Picture 7" descr="D4DE70B5"/>
          <p:cNvPicPr/>
          <p:nvPr/>
        </p:nvPicPr>
        <p:blipFill>
          <a:blip r:embed="rId2"/>
          <a:stretch/>
        </p:blipFill>
        <p:spPr>
          <a:xfrm>
            <a:off x="6227640" y="4005360"/>
            <a:ext cx="2162160" cy="1762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j0157763"/>
          <p:cNvPicPr/>
          <p:nvPr/>
        </p:nvPicPr>
        <p:blipFill>
          <a:blip r:embed="rId3"/>
          <a:stretch/>
        </p:blipFill>
        <p:spPr>
          <a:xfrm>
            <a:off x="6012000" y="2060640"/>
            <a:ext cx="1633320" cy="16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1547640" y="2205000"/>
            <a:ext cx="2303640" cy="2266920"/>
          </a:xfrm>
          <a:prstGeom prst="rect">
            <a:avLst/>
          </a:prstGeom>
          <a:ln w="0">
            <a:noFill/>
          </a:ln>
        </p:spPr>
      </p:pic>
      <p:sp>
        <p:nvSpPr>
          <p:cNvPr id="262" name="Line 13"/>
          <p:cNvSpPr/>
          <p:nvPr/>
        </p:nvSpPr>
        <p:spPr>
          <a:xfrm>
            <a:off x="6443640" y="3500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6443640" y="2060280"/>
            <a:ext cx="36036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6804000" y="2060640"/>
            <a:ext cx="43200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7250040" y="4292280"/>
            <a:ext cx="851040" cy="7081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8101080" y="4292640"/>
            <a:ext cx="0" cy="12970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18"/>
          <p:cNvSpPr/>
          <p:nvPr/>
        </p:nvSpPr>
        <p:spPr>
          <a:xfrm flipH="1" flipV="1">
            <a:off x="7256520" y="4992840"/>
            <a:ext cx="844560" cy="596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1:11:06Z</dcterms:created>
  <dc:creator>User</dc:creator>
  <dc:description/>
  <dc:language>en-US</dc:language>
  <cp:lastModifiedBy>Aira</cp:lastModifiedBy>
  <dcterms:modified xsi:type="dcterms:W3CDTF">2010-07-15T14:03:52Z</dcterms:modified>
  <cp:revision>56</cp:revision>
  <dc:subject/>
  <dc:title>Trijstūru iedalījums pēc malām un leņķiem</dc:title>
</cp:coreProperties>
</file>